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F80-F253-4563-A664-64232685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8FC-A1A2-44CC-A72B-CA404AF8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002-CF29-4B23-B3ED-76A23B36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F64-1CD4-42DF-9DB7-AF4E7616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695-CCA4-40D9-A5F5-6720792F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CF2-AF94-40CC-836E-5361880C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A15F-73B8-4CEA-B127-16193A9B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AE8-6B07-4089-9029-4FF28E85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A6C-7CA6-4575-BFD1-B3977407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DD5A-3EFB-4F57-A15B-83F7DE30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EED-2062-4A25-9A2A-D998801C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7966-215F-4FBF-841A-1D31BFA4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67B9-78E5-47F7-9123-F1C8679EFEC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Maestro, che devo fare per ereditare la vita eter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Chi è il mio prossim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Il sacerdote e il levi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Vado di fret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E se fosse una trappo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E se mentre l’aiuto vengono i brigan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Poi divento impu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È l’amore a capovolgere la log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- Ho paura è vero, ma se non lo aiuto io che fine f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- Di chi posso essere il prossimo oggi?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Inve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10 ver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Lo vid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Si mosse a piet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Si curvò su di lu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Gli fasciò le ferit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Gli versò l’oli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Lo caricò sul giument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Lo portò in alberg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Si prese cura di lu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Pag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N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Possiamo essere briga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Possiamo essere il sacerdote e il lev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Possiamo essere il samarit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Siamo il viand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6:33:55Z</dcterms:created>
  <dc:creator>Babau</dc:creator>
  <dc:description/>
  <dc:language>en-US</dc:language>
  <cp:lastModifiedBy>Qumran2</cp:lastModifiedBy>
  <dcterms:modified xsi:type="dcterms:W3CDTF">2011-06-07T15:08:50Z</dcterms:modified>
  <cp:revision>6</cp:revision>
  <dc:subject/>
  <dc:title>Lo vide  Si mosse a pietà  Si curvò su di lui  Gli fasciò le ferite  Gli versò l’olio  Lo caricò sul giumento  Lo portò in albergo  Si prese cura di lui  Tornò indietro a pagare</dc:title>
</cp:coreProperties>
</file>